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1219358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D2A4-7741-4D68-8D5C-9DB050C08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4A14-EEB3-457A-AEC0-9A3DE45A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3555E-304E-43F7-8DB3-FBA151E2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8FE4FC-30E5-4175-BE1E-4F00DE08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7EF25E-93A9-49DF-8809-58A98F96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56314-45E8-4AF4-9239-47CF3EFD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8D9B8-7DEF-4BBA-A842-27FAFA24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B73119-5AB9-4C4B-B076-39F70E44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2CA3A-5E81-4F85-8E75-8DB94509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8281E-CC19-40A3-819A-7E300C5F9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0ACEE-FCA3-4830-9451-53D66C003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2C2DAE-519F-43AB-B05C-31D676D6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886E-E059-40F5-93EB-F55D0AE33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74575-07D2-4087-BE2C-47CC908F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C665C-777A-4316-9779-AE328079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4B1377-2792-4B7D-9DC4-4CB9FBA4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4B03E8-1312-49AF-AA1F-CEAB8147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195A5B-408F-471D-889A-7C57A9A0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39381C-8214-497F-BC84-C03E8192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6B51AF-25C0-4671-9B20-28952B44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4EB0F-B827-4DCB-B1C6-8C8B2EE2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65E691-33B1-4089-9F3E-84A53512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230105-E06F-4C48-AB00-7020CA90D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B203-1FF0-419D-B82D-13479706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85942-61E1-488C-8570-7C25B92FE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6B420-1186-4D79-86C5-E51312CB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4D596-EDAD-43B9-BBDE-4F95B9FB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9F32D-4AAA-412E-94AA-1CCF488A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5CD56-AD82-4C65-BAF9-215629AD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D5D6D-885F-4B65-A500-F7B52216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472A9-09AC-4D2C-A0D9-1DBA9BAD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6062B-F9F8-4E0F-AAB8-3AE8E552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4EE64-32BF-45D6-BD07-378629A1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1277E-DA51-4628-A991-BB9B8B73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A87D-73E7-48CA-A232-B4D26CCEF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33BE0-64B7-41D7-8B1E-61B76FBC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0BD1B-DAD0-4978-8740-9EE0DD88F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B2433-06CE-4EF8-A1E2-4F8EBB43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154B-4AD3-4ADD-B489-D3FC8B31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9A1E-67A5-4E35-A24A-F0326FDE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18ED-A345-48FA-BB76-1EFE637E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28DE-6738-4EFC-9532-98BF42C3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3AB7-66D9-4737-92F1-8016CEB4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37DE-DE42-488A-AB6B-4CBE55FF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D089-9547-41B3-AA23-2EDA3B8F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F238-B57C-497E-AC5B-9AFDE57C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2065-96BA-44B2-B3E3-C38310E5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2CDD-924B-468C-8ACB-90207062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A9FE-8D91-4EA8-BA83-244FC514A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6E90-117A-4823-85A2-16F3513B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F823E-4EF2-46DF-98CD-46E1B6A5C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E3EDD-EAC8-4093-BF2E-CB4957E8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116FC-B6C3-416E-9F2F-9ACEF6A7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53EBB-B777-494B-8C52-939FF4F1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F1003-D7FB-48C7-8CAD-B2848252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50F4-068B-46F6-AFAE-74B606DE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43389-4BE9-4323-881E-35CD13AC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42FBD-5F2C-4FF5-B84C-39D89EF7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17CDA-5F93-4573-8409-FA84B194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4BB4C-5B98-48FB-ABB0-0105495C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D69A6-2A0E-447D-9D02-D5C61B19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3F7C6-CB61-43C8-B81F-A055C6024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4DF3C-D6E7-4C84-AEA6-4AFCE655B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6D322-574F-4884-8F6D-D7530BD57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01434-3A98-4463-BA38-17AFBBD1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C02C9-2140-40A7-8E26-C9BBAC93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7836-0BC0-420E-B4AA-9310C708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56B1F-4DAF-4021-A087-A9E5D8A9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64D67-E9E5-4DB1-B5D4-26467503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5EEC6-73D1-4A19-AA22-EE45E15D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C942A-FBF1-4DE5-B1E3-D148FF13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39C41-1CDC-49EC-88D3-9D07D199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C8546-BA53-4010-BF26-BFFED1F8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D0B60-843D-4A5E-8AD2-AAF62D35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16B9E-9792-430B-A19A-9CF5DEB35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26364-191B-4CB1-80AD-7DF397D25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112E4-7657-4338-B423-AAC0952E8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F2DC-F5EE-49D1-A3B9-709DA515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A0949-1E4F-423C-845F-C1672314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D156A-1238-48BD-B0AC-79421763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6B376-3879-4609-AC8E-C749DE16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49AE8-D768-4C38-ABFA-77131E5D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B894B-27F7-425E-B7ED-195FBF68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9D4EB-A631-43C6-9B42-A68AC69C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0AAE8-0B9E-4117-8F98-78C8ADDC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26861-9A1B-46AF-9915-0C8F721A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58C74-A429-4891-8ACC-9F501DFA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A3D5C-75EB-4933-AD6D-B5BA91308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4531-0F48-4CC7-ACED-91ACEB33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168AA-F389-4562-9569-236189AEC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7255A-8C12-4783-961A-FF216D759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9B86E-CF61-4915-8309-A7A95449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411F7-DD0D-4446-B41E-AAC112D9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683AF-E850-4A16-9B7C-8A7443C9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B6D02-F7B3-4635-AA69-C6542C52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C5982-BB2F-420D-843A-A3420DF1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E87DC-DD4B-4B0A-B1F3-EDF8B212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19464-0FB7-4AB2-8B09-4E8BAE91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203DF-8E50-46D1-A0FB-E7D53992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F97F-6EF4-4A0F-BAC2-4690CF12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89B94-1547-43CB-916E-58FE3682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8FC13-8C4F-4242-9E99-E5F6CB06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185EE-A310-4B00-8E8C-6F8D6FCA6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A84A9-0ECC-49CA-BFCB-C57189D27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622DF-1557-422B-9D03-48C70865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44CC2-912B-433A-B81E-C0B89745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CDAF7-6309-4A3D-A079-04C21E56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33CDD-4FF9-4768-9955-3B419C4D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E8DE5-CE53-407B-B53D-73D6E57C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4A3E0-8B71-4B8D-85F6-F8DBC74F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21B6-D410-468A-B62C-D1FBDCCD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C6F83-7B04-4ED2-B68B-FC54D281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D5B87-73DF-417C-B9D9-32424AB2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3D085-5ABC-461E-993F-EFF06EB8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92721-B4FA-48CE-8B34-555682789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4D634-0363-4C8E-A960-5CCC49B5D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02AA3-946B-4521-AB48-ED5A7C13E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6CB7A-214C-4694-A595-78910A83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7E10F-D479-44AD-B1E2-C5B528E3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03160-B0EA-4481-84D2-DBAB1788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332E7-DFCF-46FB-8E34-B44E4620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F9DC-9FF0-41C3-8E85-3504204C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786F1-D19E-4206-9A06-631C13C3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F4171-76EB-4A8B-8A3F-8936D1B5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85AB9-E5ED-4F26-9D1E-907DB5DA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A0F77-5467-42CB-9EA0-C0C0CCED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19504-A61C-4384-905F-FA221DD2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5249A-C2A0-4B4B-8AC4-90974EDAB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8E9D8-D1C1-450B-AA03-4377EECF3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15204-B0CC-4F86-880E-2C6E7489C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136A7-CF3C-461D-B375-189E09BC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F04B3-1581-4DCC-BE34-EF4C17C7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2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17760" y="801360"/>
            <a:ext cx="8634240" cy="25398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7554600" y="330120"/>
            <a:ext cx="349884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415960" y="328320"/>
            <a:ext cx="4971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43784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3E50-313C-4A2C-A96F-7110B7F3C7CA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" name=""/>
          <p:cNvCxnSpPr/>
          <p:nvPr/>
        </p:nvCxnSpPr>
        <p:spPr>
          <a:xfrm>
            <a:off x="2417400" y="3529080"/>
            <a:ext cx="8638200" cy="2160"/>
          </a:xfrm>
          <a:prstGeom prst="straightConnector1">
            <a:avLst/>
          </a:prstGeom>
          <a:ln w="31680">
            <a:solidFill>
              <a:srgbClr val="b71e42"/>
            </a:solidFill>
            <a:round/>
          </a:ln>
        </p:spPr>
      </p:cxn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39480" indent="-3394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339480" indent="-3394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339480" indent="-3394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339480" indent="-3394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339480" indent="-3394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39480" indent="-3394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403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4680" y="798120"/>
            <a:ext cx="3271680" cy="224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43240" y="798480"/>
            <a:ext cx="6010200" cy="465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7554600" y="330120"/>
            <a:ext cx="349884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1450440" y="328320"/>
            <a:ext cx="593748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48060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0755-50FD-4717-909A-251B2DCF3376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9" name=""/>
          <p:cNvCxnSpPr/>
          <p:nvPr/>
        </p:nvCxnSpPr>
        <p:spPr>
          <a:xfrm>
            <a:off x="1447920" y="3204720"/>
            <a:ext cx="3270960" cy="2520"/>
          </a:xfrm>
          <a:prstGeom prst="straightConnector1">
            <a:avLst/>
          </a:prstGeom>
          <a:ln w="31680">
            <a:solidFill>
              <a:srgbClr val="b71e42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448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grpSp>
        <p:nvGrpSpPr>
          <p:cNvPr id="449" name=""/>
          <p:cNvGrpSpPr/>
          <p:nvPr/>
        </p:nvGrpSpPr>
        <p:grpSpPr>
          <a:xfrm>
            <a:off x="7477200" y="482760"/>
            <a:ext cx="4071960" cy="5146560"/>
            <a:chOff x="7477200" y="482760"/>
            <a:chExt cx="4071960" cy="5146560"/>
          </a:xfrm>
        </p:grpSpPr>
        <p:sp>
          <p:nvSpPr>
            <p:cNvPr id="450" name=""/>
            <p:cNvSpPr/>
            <p:nvPr/>
          </p:nvSpPr>
          <p:spPr>
            <a:xfrm>
              <a:off x="7477200" y="482760"/>
              <a:ext cx="4071960" cy="5146560"/>
            </a:xfrm>
            <a:prstGeom prst="rect">
              <a:avLst/>
            </a:prstGeom>
            <a:gradFill rotWithShape="0">
              <a:gsLst>
                <a:gs pos="0">
                  <a:srgbClr val="000001"/>
                </a:gs>
                <a:gs pos="100000">
                  <a:srgbClr val="191919"/>
                </a:gs>
              </a:gsLst>
              <a:lin ang="5400000"/>
            </a:gradFill>
            <a:ln w="0">
              <a:noFill/>
            </a:ln>
            <a:effectLst>
              <a:outerShdw dist="228470" dir="4740526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790040" y="812880"/>
              <a:ext cx="3447720" cy="44640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fffffe"/>
                </a:gs>
              </a:gsLst>
              <a:lin ang="16200000"/>
            </a:gradFill>
            <a:ln w="50760">
              <a:solidFill>
                <a:srgbClr val="1919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50800" y="1130400"/>
            <a:ext cx="553104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8124840" y="1122120"/>
            <a:ext cx="2789280" cy="3863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90000" rIns="90000" tIns="45000" bIns="45000" anchor="t">
            <a:normAutofit fontScale="65000"/>
          </a:bodyPr>
          <a:p>
            <a:pPr marL="22284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222840" indent="-2228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222840" indent="-2228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222840" indent="-2228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22840" indent="-2228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22840" indent="-2228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22840" indent="-2228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1"/>
          </p:nvPr>
        </p:nvSpPr>
        <p:spPr>
          <a:xfrm>
            <a:off x="1447920" y="5470560"/>
            <a:ext cx="5526000" cy="3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2"/>
          </p:nvPr>
        </p:nvSpPr>
        <p:spPr>
          <a:xfrm>
            <a:off x="1447560" y="318600"/>
            <a:ext cx="5538600" cy="3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3"/>
          </p:nvPr>
        </p:nvSpPr>
        <p:spPr>
          <a:xfrm>
            <a:off x="48060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B4C8-A2F2-428A-8C9A-4632EDEE7A40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/>
          <p:nvPr/>
        </p:nvCxnSpPr>
        <p:spPr>
          <a:xfrm>
            <a:off x="1447920" y="3142800"/>
            <a:ext cx="5527800" cy="2520"/>
          </a:xfrm>
          <a:prstGeom prst="straightConnector1">
            <a:avLst/>
          </a:prstGeom>
          <a:ln w="31680">
            <a:solidFill>
              <a:srgbClr val="b71e42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47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 fontScale="81000"/>
          </a:bodyPr>
          <a:p>
            <a:pPr marL="27756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277560" indent="-27756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277560" indent="-27756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277560" indent="-27756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77560" indent="-27756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77560" indent="-27756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77560" indent="-27756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554600" y="330120"/>
            <a:ext cx="349884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450440" y="328320"/>
            <a:ext cx="593748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48060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D732-5D85-49D2-BA19-8D4B2705C616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/>
          <p:nvPr/>
        </p:nvCxnSpPr>
        <p:spPr>
          <a:xfrm>
            <a:off x="1454040" y="1846440"/>
            <a:ext cx="9608400" cy="2160"/>
          </a:xfrm>
          <a:prstGeom prst="straightConnector1">
            <a:avLst/>
          </a:prstGeom>
          <a:ln w="31680">
            <a:solidFill>
              <a:srgbClr val="b71e42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92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438840" y="798480"/>
            <a:ext cx="1614600" cy="465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4680" y="798480"/>
            <a:ext cx="7826400" cy="465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7554600" y="330120"/>
            <a:ext cx="349884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50440" y="328320"/>
            <a:ext cx="593748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060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5C2D-76F6-4930-A666-38EAEE44648F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9438840" y="798120"/>
            <a:ext cx="2520" cy="4661640"/>
          </a:xfrm>
          <a:prstGeom prst="straightConnector1">
            <a:avLst/>
          </a:prstGeom>
          <a:ln w="31680">
            <a:solidFill>
              <a:srgbClr val="b71e42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137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7554600" y="330120"/>
            <a:ext cx="349884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50440" y="328320"/>
            <a:ext cx="593748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060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B46C-B64A-4B3E-B007-C633C1E775B3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/>
          <p:nvPr/>
        </p:nvCxnSpPr>
        <p:spPr>
          <a:xfrm>
            <a:off x="1454040" y="1846440"/>
            <a:ext cx="9608400" cy="2160"/>
          </a:xfrm>
          <a:prstGeom prst="straightConnector1">
            <a:avLst/>
          </a:prstGeom>
          <a:ln w="31680">
            <a:solidFill>
              <a:srgbClr val="b71e42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182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54040" y="1755360"/>
            <a:ext cx="8640720" cy="18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53680" y="3806640"/>
            <a:ext cx="8628120" cy="10112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22000"/>
          </a:bodyPr>
          <a:p>
            <a:pPr marL="7524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5240" indent="-752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5240" indent="-752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75240" indent="-752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75240" indent="-752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75240" indent="-752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75240" indent="-752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7554600" y="330120"/>
            <a:ext cx="349884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50440" y="328320"/>
            <a:ext cx="593748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060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2662-DE80-4F66-BECE-BB6B71098B8E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/>
          <p:nvPr/>
        </p:nvCxnSpPr>
        <p:spPr>
          <a:xfrm>
            <a:off x="1454040" y="3804840"/>
            <a:ext cx="8632080" cy="2520"/>
          </a:xfrm>
          <a:prstGeom prst="straightConnector1">
            <a:avLst/>
          </a:prstGeom>
          <a:ln w="31680">
            <a:solidFill>
              <a:srgbClr val="b71e42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227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9360" y="804600"/>
            <a:ext cx="960264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7920" y="2011320"/>
            <a:ext cx="4643280" cy="34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7554600" y="330120"/>
            <a:ext cx="349884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50440" y="328320"/>
            <a:ext cx="593748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060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C63B-773C-466C-B016-504D29691185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"/>
          <p:cNvCxnSpPr/>
          <p:nvPr/>
        </p:nvCxnSpPr>
        <p:spPr>
          <a:xfrm>
            <a:off x="1454040" y="1846440"/>
            <a:ext cx="9608400" cy="2160"/>
          </a:xfrm>
          <a:prstGeom prst="straightConnector1">
            <a:avLst/>
          </a:prstGeom>
          <a:ln w="31680">
            <a:solidFill>
              <a:srgbClr val="b71e42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272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7560" y="804960"/>
            <a:ext cx="960588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7920" y="2018880"/>
            <a:ext cx="4643280" cy="8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17000"/>
          </a:bodyPr>
          <a:p>
            <a:pPr marL="5832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320" indent="-5832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58320" indent="-5832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58320" indent="-5832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58320" indent="-5832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58320" indent="-5832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58320" indent="-5832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7554600" y="330120"/>
            <a:ext cx="349884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50440" y="328320"/>
            <a:ext cx="593748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060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E7E3-4554-4311-8151-24C0CBE78CBF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"/>
          <p:cNvCxnSpPr/>
          <p:nvPr/>
        </p:nvCxnSpPr>
        <p:spPr>
          <a:xfrm>
            <a:off x="1454040" y="1846440"/>
            <a:ext cx="9608400" cy="2160"/>
          </a:xfrm>
          <a:prstGeom prst="straightConnector1">
            <a:avLst/>
          </a:prstGeom>
          <a:ln w="31680">
            <a:solidFill>
              <a:srgbClr val="b71e42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317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dt" idx="22"/>
          </p:nvPr>
        </p:nvSpPr>
        <p:spPr>
          <a:xfrm>
            <a:off x="7554600" y="330120"/>
            <a:ext cx="349884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ftr" idx="23"/>
          </p:nvPr>
        </p:nvSpPr>
        <p:spPr>
          <a:xfrm>
            <a:off x="1450440" y="328320"/>
            <a:ext cx="593748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24"/>
          </p:nvPr>
        </p:nvSpPr>
        <p:spPr>
          <a:xfrm>
            <a:off x="48060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E478-6D52-4422-AE12-C1C596B06A0B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2" name=""/>
          <p:cNvCxnSpPr/>
          <p:nvPr/>
        </p:nvCxnSpPr>
        <p:spPr>
          <a:xfrm>
            <a:off x="1454040" y="1846440"/>
            <a:ext cx="9608400" cy="2160"/>
          </a:xfrm>
          <a:prstGeom prst="straightConnector1">
            <a:avLst/>
          </a:prstGeom>
          <a:ln w="31680">
            <a:solidFill>
              <a:srgbClr val="b71e42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361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362" name="PlaceHolder 1"/>
          <p:cNvSpPr>
            <a:spLocks noGrp="1"/>
          </p:cNvSpPr>
          <p:nvPr>
            <p:ph type="dt" idx="25"/>
          </p:nvPr>
        </p:nvSpPr>
        <p:spPr>
          <a:xfrm>
            <a:off x="7554600" y="330120"/>
            <a:ext cx="349884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ftr" idx="26"/>
          </p:nvPr>
        </p:nvSpPr>
        <p:spPr>
          <a:xfrm>
            <a:off x="1450440" y="328320"/>
            <a:ext cx="593748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sldNum" idx="27"/>
          </p:nvPr>
        </p:nvSpPr>
        <p:spPr>
          <a:xfrm>
            <a:off x="48060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DADF-3526-4B4B-931A-D85D1F795238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6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515680" y="1398240"/>
            <a:ext cx="8636040" cy="11430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ill Sans MT"/>
              </a:rPr>
              <a:t>Journée d’Apprentissage et de Partage Culturel Africai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3146040" y="2623680"/>
            <a:ext cx="8636040" cy="644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Une initiative solidaire pour l’inclusion et l’é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1239120" y="3692520"/>
            <a:ext cx="7256520" cy="23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Porteur : YANLOM'S 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Date :10 décembre 2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Lieu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Mairie de Paris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Contact : associationyanlomsprod@gmail .com 00 33 07 83 91 46 44 /0033 0605662376/0023566999597/686876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0" y="6168960"/>
            <a:ext cx="12192120" cy="368280"/>
          </a:xfrm>
          <a:prstGeom prst="rect">
            <a:avLst/>
          </a:prstGeom>
          <a:solidFill>
            <a:srgbClr val="dfd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300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evenez Notre Partenai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"/>
          <p:cNvSpPr/>
          <p:nvPr/>
        </p:nvSpPr>
        <p:spPr>
          <a:xfrm>
            <a:off x="880920" y="1844640"/>
            <a:ext cx="1017108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0" y="6249960"/>
            <a:ext cx="12192120" cy="516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Rejoignez-nous pour faire la différence 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1450800" y="2998800"/>
          <a:ext cx="9605880" cy="441000"/>
        </p:xfrm>
        <a:graphic>
          <a:graphicData uri="http://schemas.openxmlformats.org/drawingml/2006/table">
            <a:tbl>
              <a:tblPr/>
              <a:tblGrid>
                <a:gridCol w="4803120"/>
                <a:gridCol w="4802760"/>
              </a:tblGrid>
              <a:tr h="4410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1e42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1e4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1009800" y="1432080"/>
          <a:ext cx="10173600" cy="3847680"/>
        </p:xfrm>
        <a:graphic>
          <a:graphicData uri="http://schemas.openxmlformats.org/drawingml/2006/table">
            <a:tbl>
              <a:tblPr/>
              <a:tblGrid>
                <a:gridCol w="1996920"/>
                <a:gridCol w="4088520"/>
                <a:gridCol w="4088160"/>
              </a:tblGrid>
              <a:tr h="336240">
                <a:tc>
                  <a:txBody>
                    <a:bodyPr lIns="5040" rIns="5040" tIns="5040" bIns="5040" anchor="ctr">
                      <a:noAutofit/>
                    </a:bodyPr>
                    <a:p>
                      <a:pPr algn="ctr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ivea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040" rIns="5040" tIns="5040" bIns="5040" anchor="ctr">
                      <a:noAutofit/>
                    </a:bodyPr>
                    <a:p>
                      <a:pPr algn="ctr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Montant (€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040" rIns="5040" tIns="5040" bIns="5040" anchor="ctr">
                      <a:noAutofit/>
                    </a:bodyPr>
                    <a:p>
                      <a:pPr algn="ctr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ontrepar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032480">
                <a:tc>
                  <a:txBody>
                    <a:bodyPr lIns="5040" rIns="5040" tIns="5040" bIns="504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Bro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5040" rIns="5040" tIns="5040" bIns="504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5040" rIns="5040" tIns="5040" bIns="504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Logo sur flyers et banderoles, mention dans les communications médi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1161000">
                <a:tc>
                  <a:txBody>
                    <a:bodyPr lIns="5040" rIns="5040" tIns="5040" bIns="504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Ar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5b5b5"/>
                    </a:solidFill>
                  </a:tcPr>
                </a:tc>
                <a:tc>
                  <a:txBody>
                    <a:bodyPr lIns="5040" rIns="5040" tIns="5040" bIns="504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3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5b5b5"/>
                    </a:solidFill>
                  </a:tcPr>
                </a:tc>
                <a:tc>
                  <a:txBody>
                    <a:bodyPr lIns="5040" rIns="5040" tIns="5040" bIns="504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Logo sur tous supports, mention verbale à l’événement, stand promotionne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5b5b5"/>
                    </a:solidFill>
                  </a:tcPr>
                </a:tc>
              </a:tr>
              <a:tr h="1317960">
                <a:tc>
                  <a:txBody>
                    <a:bodyPr lIns="5040" rIns="5040" tIns="5040" bIns="504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040" rIns="5040" tIns="5040" bIns="504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5 000 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040" rIns="5040" tIns="5040" bIns="504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Logo grand format, mention médias/réseaux sociaux, stand premium, remerciement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146040" y="804960"/>
            <a:ext cx="790884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Ensemble, Faisons la Différe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"/>
          <p:cNvSpPr/>
          <p:nvPr/>
        </p:nvSpPr>
        <p:spPr>
          <a:xfrm>
            <a:off x="1450800" y="1544760"/>
            <a:ext cx="9603000" cy="26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Soutenez l’inclusion, l’éducation et la diversité culturelle avec YANLOM'S PR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Votre engagement offrira transport, subsistances et espoir aux plus vulnér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Contactez-nous : </a:t>
            </a:r>
            <a:r>
              <a:rPr b="0" lang="fr-FR" sz="2000" spc="-1" strike="noStrike" u="sng">
                <a:solidFill>
                  <a:srgbClr val="fa2b5c"/>
                </a:solidFill>
                <a:uFillTx/>
                <a:latin typeface="Gill Sans MT"/>
              </a:rPr>
              <a:t>associationyanlomsprod@gmail,com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, 00 33 07 83 91 46 44 /06056623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0" y="6243480"/>
            <a:ext cx="12192120" cy="4561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Rejoignez-nous pour faire la différence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98960" y="4502160"/>
            <a:ext cx="57927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b71e42"/>
                </a:solidFill>
                <a:latin typeface="Gill Sans MT"/>
              </a:rPr>
              <a:t>Participez à une aventure solidaire et culturelle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146040" y="804960"/>
            <a:ext cx="790884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Pour aller plus lo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"/>
          <p:cNvSpPr/>
          <p:nvPr/>
        </p:nvSpPr>
        <p:spPr>
          <a:xfrm>
            <a:off x="1450800" y="1544760"/>
            <a:ext cx="9603000" cy="26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4572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Annexes disponibles : Dossier complet, rapports statistiques, planning détaill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Contact : </a:t>
            </a: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Mme SOLKAM YANLOM Félicité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, Présidente YANLOM'S PROD             Mail: </a:t>
            </a:r>
            <a:r>
              <a:rPr b="0" lang="fr-FR" sz="2000" spc="-1" strike="noStrike" u="sng">
                <a:solidFill>
                  <a:srgbClr val="fa2b5c"/>
                </a:solidFill>
                <a:uFillTx/>
                <a:latin typeface="Gill Sans MT"/>
              </a:rPr>
              <a:t>associationyanlomsprod@gmail,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Tel: 00 33 07 83 91 46 4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2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0" y="6243480"/>
            <a:ext cx="12192120" cy="4561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Rejoignez-nous pour faire la différence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198960" y="4502160"/>
            <a:ext cx="57927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b71e42"/>
                </a:solidFill>
                <a:latin typeface="Gill Sans MT"/>
              </a:rPr>
              <a:t>Participez à une aventure solidaire et culturelle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93840" y="534600"/>
            <a:ext cx="960264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Une Invitation à la Solidarité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"/>
          <p:cNvSpPr/>
          <p:nvPr/>
        </p:nvSpPr>
        <p:spPr>
          <a:xfrm>
            <a:off x="1495440" y="3746520"/>
            <a:ext cx="960264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Objectif : Promouvoir l’inclusion sociale à Paris et soutenir l’éducation en Afriqu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Partenaires visés VOUS !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5629320"/>
            <a:ext cx="12192120" cy="395280"/>
          </a:xfrm>
          <a:prstGeom prst="rect">
            <a:avLst/>
          </a:prstGeom>
          <a:solidFill>
            <a:srgbClr val="dfd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Rejoignez-nous pour faire la différence 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1200240" y="1096920"/>
            <a:ext cx="9385200" cy="17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algn="just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00000"/>
                </a:solidFill>
                <a:latin typeface="Gill Sans MT"/>
              </a:rPr>
              <a:t>YANLOM'S PROD vous invite à soutenir un événement culturel et solidaire d’enverg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2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0" y="6202440"/>
            <a:ext cx="12192120" cy="522360"/>
          </a:xfrm>
          <a:prstGeom prst="rect">
            <a:avLst/>
          </a:prstGeom>
          <a:solidFill>
            <a:srgbClr val="b0a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79120" y="815760"/>
            <a:ext cx="9604440" cy="59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Une Journée pour l’Inclusion et l’Espoi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45600" y="1531800"/>
            <a:ext cx="464508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</a:rPr>
              <a:t>Quoi ?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 Journée culturelle avec ateliers de danse, musique, conte, défilé, transport adapté et distribution de subsistances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</a:rPr>
              <a:t>Quand ?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 11 octobre 2025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990680" y="1531800"/>
            <a:ext cx="66531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51240" indent="-21708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Où ?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 Mairie de Paris 14e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51240" indent="-21708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Pourquoi ?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1085760" indent="-21708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Offrir joie et dignité aux personnes vulnérables (personnes âgées, enfants en situation de handicap)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1085760" indent="-21708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Collecter 5 000 € pour 200 kits scolaires et 50 équipements d’assistance en Afrique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859680" y="4484520"/>
            <a:ext cx="8326440" cy="11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Gill Sans MT"/>
              </a:rPr>
              <a:t>Données clées</a:t>
            </a:r>
            <a:r>
              <a:rPr b="0" lang="fr-FR" sz="1800" spc="-1" strike="noStrike">
                <a:solidFill>
                  <a:srgbClr val="ff0000"/>
                </a:solidFill>
                <a:latin typeface="Gill Sans MT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1,2M de personnes âgées isolées en France (Petits Frères des Pauvres, 202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30M d’enfants sans accès à l’éducation en Afrique (UNESCO, 202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9000" y="804600"/>
            <a:ext cx="9604440" cy="43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Qui Sommes-Nous 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-360" y="1607760"/>
            <a:ext cx="11053800" cy="27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6000" indent="-19188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Association fondée en 2023 à Paris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76000" indent="-19188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Mission : Promouvoir les cultures africaines et soutenir les populations vulnérables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76000" indent="-19188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Réalisations : Œuvres caritatives, soirées culturelles, foires, journées et atélier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76000" indent="-19188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Valeurs : Solidarité, inclusion, diversité culturell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960120" indent="-19188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Plus de 20 événements culturels, touchant 5 000 personnes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960120" indent="-19188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Partenariats avec la Mairie de Paris 14e et autres acteurs</a:t>
            </a: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-360" y="6141960"/>
            <a:ext cx="12192120" cy="627120"/>
          </a:xfrm>
          <a:prstGeom prst="rect">
            <a:avLst/>
          </a:prstGeom>
          <a:solidFill>
            <a:srgbClr val="b0a697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Rejoignez-nous pour faire la différence !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3"/>
          <a:stretch/>
        </p:blipFill>
        <p:spPr>
          <a:xfrm>
            <a:off x="8008920" y="2027160"/>
            <a:ext cx="4183200" cy="35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50440" y="804960"/>
            <a:ext cx="96030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Nos Ambi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"/>
          <p:cNvSpPr/>
          <p:nvPr/>
        </p:nvSpPr>
        <p:spPr>
          <a:xfrm>
            <a:off x="1339920" y="2016000"/>
            <a:ext cx="9602640" cy="26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Inclusion sociale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 : Rassembler 500 personnes vulnérables (personnes âgées isolées, jeunes, orphelins, enfants en situation de handica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Soutien humanitaire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 : Financer l’éducation et la mobilité des enfants en Afrique (Tchad, Congo, Côte d’Ivoire, Camerou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Promotion culturelle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 : Valoriser les traditions africa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0" y="6186600"/>
            <a:ext cx="12283920" cy="516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Rejoignez-nous pour faire la différence 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9000" y="804600"/>
            <a:ext cx="960444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Programme et Impa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47880" y="1476360"/>
            <a:ext cx="55735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78600" indent="-22608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</a:rPr>
              <a:t>Activités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1131480" indent="-22608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Ateliers : Danse africaine, musique (piano, guitare, percussions), chant, conte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1131480" indent="-22608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Défilé en habits traditionnels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1131480" indent="-22608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Vente solidaire de repas et boissons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1131480" indent="-22608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Transport : Location de 2 bus pour enfants en situation de handicap et personnes âgées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1131480" indent="-22608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Distribution : 100 paquets de subsistances (enfants et personnes âgées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51040" y="1482840"/>
            <a:ext cx="464508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Résultats attendus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500 participants à Paris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15 000 € collectés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200 kits scolaires et 50 équipements d’assistance distribués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Renforcement des liens interculturels</a:t>
            </a:r>
            <a:r>
              <a:rPr b="0" lang="fr-FR" sz="16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14400" y="6261120"/>
            <a:ext cx="12191760" cy="516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Rejoignez-nous pour faire la différence 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300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Qui Bénéficiera de Votre Soutien 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"/>
          <p:cNvSpPr/>
          <p:nvPr/>
        </p:nvSpPr>
        <p:spPr>
          <a:xfrm>
            <a:off x="1450800" y="2016000"/>
            <a:ext cx="960300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À Paris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 : Personnes âgées isolées, jeunes, orphelins, enfants des rues, enfants en situation de handicap (500 bénéficiaires de subsistanc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En Afrique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 : Enfants scolarisés ou en situation de handicap (Tchad, Congo, Côte d’Ivoire, Camerou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2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0" y="6249960"/>
            <a:ext cx="12192120" cy="516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Rejoignez-nous pour faire la différence 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300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Pourquoi Soutenir ce Projet 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"/>
          <p:cNvSpPr/>
          <p:nvPr/>
        </p:nvSpPr>
        <p:spPr>
          <a:xfrm>
            <a:off x="1015920" y="1616040"/>
            <a:ext cx="9603000" cy="29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Institutions </a:t>
            </a:r>
            <a:r>
              <a:rPr b="0" lang="fr-FR" sz="29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: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Alignement avec les ODD (Éducation, Réduction des inégalités)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Visibilité international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Secteur privé </a:t>
            </a:r>
            <a:r>
              <a:rPr b="0" lang="fr-FR" sz="29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: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Renforcement de la responsabilité sociale d’entreprise (RSE)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Promotion auprès d’une audience diversifié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Société civile</a:t>
            </a:r>
            <a:r>
              <a:rPr b="0" lang="fr-FR" sz="29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 : Contribution à une cause inclusive et solidair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0" y="6249960"/>
            <a:ext cx="12192120" cy="516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Rejoignez-nous pour faire la différence 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563840" y="574200"/>
            <a:ext cx="960264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Nos besoin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-9360" y="6335640"/>
            <a:ext cx="12191760" cy="516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Rejoignez-nous pour faire la différence 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919080" y="2324160"/>
            <a:ext cx="516744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716040" y="1957320"/>
          <a:ext cx="10243800" cy="3358800"/>
        </p:xfrm>
        <a:graphic>
          <a:graphicData uri="http://schemas.openxmlformats.org/drawingml/2006/table">
            <a:tbl>
              <a:tblPr/>
              <a:tblGrid>
                <a:gridCol w="10243800"/>
              </a:tblGrid>
              <a:tr h="330840">
                <a:tc>
                  <a:txBody>
                    <a:bodyPr lIns="44280" rIns="44280" tIns="0" bIns="0" anchor="ctr">
                      <a:noAutofit/>
                    </a:bodyPr>
                    <a:p>
                      <a:pPr marL="171360" indent="-171360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50 équipements d’assistance (béquilles, chaises roulantes, déambulateurs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6bc"/>
                    </a:solidFill>
                  </a:tcPr>
                </a:tc>
              </a:tr>
              <a:tr h="289800">
                <a:tc>
                  <a:txBody>
                    <a:bodyPr lIns="44280" rIns="44280" tIns="0" bIns="0" anchor="ctr">
                      <a:noAutofit/>
                    </a:bodyPr>
                    <a:p>
                      <a:pPr marL="171360" indent="-171360" algn="just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300 kits scolair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6bc"/>
                    </a:solidFill>
                  </a:tcPr>
                </a:tc>
              </a:tr>
              <a:tr h="308880">
                <a:tc>
                  <a:txBody>
                    <a:bodyPr lIns="44280" rIns="44280" tIns="0" bIns="0" anchor="ctr">
                      <a:noAutofit/>
                    </a:bodyPr>
                    <a:p>
                      <a:pPr marL="171360" indent="-171360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Location de la sal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6bc"/>
                    </a:solidFill>
                  </a:tcPr>
                </a:tc>
              </a:tr>
              <a:tr h="289800">
                <a:tc>
                  <a:txBody>
                    <a:bodyPr lIns="44280" rIns="44280" tIns="0" bIns="0" anchor="ctr">
                      <a:noAutofit/>
                    </a:bodyPr>
                    <a:p>
                      <a:pPr marL="171360" indent="-171360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Location de 2 bus pour transporter les enfants et les personnes handicapé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6bc"/>
                    </a:solidFill>
                  </a:tcPr>
                </a:tc>
              </a:tr>
              <a:tr h="289800">
                <a:tc>
                  <a:txBody>
                    <a:bodyPr lIns="44280" rIns="44280" tIns="0" bIns="0" anchor="ctr">
                      <a:noAutofit/>
                    </a:bodyPr>
                    <a:p>
                      <a:pPr marL="171360" indent="-171360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pas ou paquets de subsistances pour bénéficiair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6bc"/>
                    </a:solidFill>
                  </a:tcPr>
                </a:tc>
              </a:tr>
              <a:tr h="595440">
                <a:tc>
                  <a:txBody>
                    <a:bodyPr lIns="44280" rIns="44280" tIns="0" bIns="0" anchor="ctr">
                      <a:noAutofit/>
                    </a:bodyPr>
                    <a:p>
                      <a:pPr marL="171360" indent="-171360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Location instruments de musiqu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30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Kits de santé et matériel méd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6bc"/>
                    </a:solidFill>
                  </a:tcPr>
                </a:tc>
              </a:tr>
              <a:tr h="289800">
                <a:tc>
                  <a:txBody>
                    <a:bodyPr lIns="44280" rIns="44280" tIns="0" bIns="0" anchor="ctr">
                      <a:noAutofit/>
                    </a:bodyPr>
                    <a:p>
                      <a:pPr marL="171360" indent="-171360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ébergement des artist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6bc"/>
                    </a:solidFill>
                  </a:tcPr>
                </a:tc>
              </a:tr>
              <a:tr h="654480">
                <a:tc>
                  <a:txBody>
                    <a:bodyPr lIns="44280" rIns="44280" tIns="0" bIns="0" anchor="ctr">
                      <a:noAutofit/>
                    </a:bodyPr>
                    <a:p>
                      <a:pPr marL="171360" indent="-171360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Frais de transport Artistes bénévo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rmation des bénévol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6bc"/>
                    </a:solidFill>
                  </a:tcPr>
                </a:tc>
              </a:tr>
              <a:tr h="309960">
                <a:tc>
                  <a:txBody>
                    <a:bodyPr lIns="44280" rIns="44280" tIns="0" bIns="0" anchor="ctr">
                      <a:noAutofit/>
                    </a:bodyPr>
                    <a:p>
                      <a:pPr marL="171360" indent="-171360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Agents de sécuri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6b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7-28T10:28:16Z</dcterms:created>
  <dc:creator>test1</dc:creator>
  <dc:description/>
  <dc:language>en-US</dc:language>
  <cp:lastModifiedBy/>
  <dcterms:modified xsi:type="dcterms:W3CDTF">2025-10-23T18:23:01Z</dcterms:modified>
  <cp:revision>28</cp:revision>
  <dc:subject/>
  <dc:title>Journée d’Apprentissage et de Partage Culturel Africai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12</vt:r8>
  </property>
</Properties>
</file>